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7BD-B696-4DB9-B14F-47C15E20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B27-06CA-4FE4-93FC-12E9F0D6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EAE-E708-414A-81D2-E595BC01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1D4-561F-42D8-8DC5-A4D84E7A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0017-7F3B-486F-9DF4-FAB3B85B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85A0-E0C5-4678-B0E9-6E053FA7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3B2B-B4CC-4C2E-B848-A3AB31A8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B85B-180B-4C5B-9B0B-05481E90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2803-B4B9-48CA-8F11-2F41B24F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33E3-99D0-4882-BCE4-23CC8567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FE94-1D98-4C62-B825-6D489634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25A-0D50-4CB0-A74A-7890E143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A15C-AEBE-4673-A6E5-779D6B06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491D-C0E3-44EC-8D0D-8949AF41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3133-D38F-42EC-8F6B-221D4943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77C2-ED76-4A82-B239-8F4BCC92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7F65-13FC-4BC2-B33B-6570FD83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AC5-D3F2-4677-B4FD-D0AA46B8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5DC-8221-4883-BBDB-1F7978C7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586-EDE2-41C7-ACAE-E951B3BB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069-D31C-4067-A89C-34838311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899-0B77-4ADF-9D40-A8FBFA19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B72-A751-439F-BE47-4E07F153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A04-0FC2-46CF-8C57-5146247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F748-AA93-4DE1-AD54-409652785D6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44FE-F934-4BFD-AE11-1EE7656FD76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76920" y="2093760"/>
            <a:ext cx="426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By measuring the time between waves, scientists can figure out how far away the quakes w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t least 3 stations around the world are needed to determine exactly where the earthquake occurred (a process called triangulation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724280" y="209376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The Richter Scale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 scale of magnitude developed by Gutenberg and C.F. Richter in 193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cale is logarithmic (e.x. 4 on the Richter Scale is 10 times more powerful than a 3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ignificant damage usually occurs at 5 and above on the sca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577960"/>
            <a:ext cx="4267080" cy="283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Death &amp; Destruct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6019560" cy="3803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553080" y="2093760"/>
            <a:ext cx="2362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death tol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probability of property damag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What Do You Know About Earthquakes?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4457520" cy="30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76920" y="2133720"/>
            <a:ext cx="40384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udden massive fracturing of rock along a distinct fault plane. The movement is termed </a:t>
            </a: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-SLIP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76920" y="2133720"/>
            <a:ext cx="40384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 -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Great stress is built up.  Rocks are able to stick due to interlocking of the grains of which they are buil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76920" y="2133720"/>
            <a:ext cx="40384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LIP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When stresses are too great the plates slip past each oth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76920" y="2133720"/>
            <a:ext cx="40384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NERGY RELEASE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xpanded in the form of “shock waves”.  Waves travel from the point of slippage (focus) though rock either along the surface or directly through the ear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280" y="1803240"/>
          <a:ext cx="605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03240"/>
                    <a:ext cx="605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15040" y="3548160"/>
            <a:ext cx="367668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Peter Grant</cp:lastModifiedBy>
  <dcterms:modified xsi:type="dcterms:W3CDTF">2012-02-24T02:53:08Z</dcterms:modified>
  <cp:revision>31</cp:revision>
  <dc:subject/>
  <dc:title>Slide 1</dc:title>
</cp:coreProperties>
</file>